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99ff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8C1AF-E2B9-4BF9-94F4-55B0AB5FC32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ое регулирование и валютный контро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ое регулирование и валютный контро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_ средства в рублях на счетах в банках и иных кредитных учреждениях в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_ средства в рублях на счетах в банках и иных кредитных учреждениях за пределами РФ (на основании межправительственных соглашений  об использовании валюты РФ на территории данного государств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_ платежные документы(чеки, векселя, аккредитивы и др.), фондовые ценности (акции, облигации), другие долговые обязательства, выраженные в рубл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кольку внешнеэкономические связи предполагают обмен национальной валюты на иностранну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 Иностранная валюта» - это денежные знаки в виде банкнот, казначейских билетов, монет, находящиеся в обращении и являющиеся законным платежным средством в соответствующем государстве, а также средства на счетах в денежных единицах иностранных государ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алютные операции» определены как операции, которые связаны с переходом права собственности и иных прав на валютные ценности, в том числе использование в качестве средства платежа ценных бумаг в иностранной валюте; ввоз и пересылка в РФ и из РФ валютных ценностей, международные денежные переводы, а также операции, в которых участвуют нерезиденты 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_ средства в рублях на счетах в банках и иных кредитных учреждениях в РФ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_ средства в рублях на счетах в банках и иных кредитных учреждениях за пределами РФ (на основании межправительственных соглашений  об использовании валюты РФ на территории данного государства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_ платежные документы(чеки, векселя, аккредитивы и др.), фондовые ценности (акции, облигации), другие долговые обязательства, выраженные в рубл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кольку внешнеэкономические связи предполагают обмен национальной валюты на иностранну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 Иностранная валюта» - это денежные знаки в виде банкнот, казначейских билетов, монет, находящиеся в обращении и являющиеся законным платежным средством в соответствующем государстве, а также средства на счетах в денежных единицах иностранных государст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Валютные операции» определены как операции, которые связаны с переходом права собственности и иных прав на валютные ценности, в том числе использование в качестве средства платежа ценных бумаг в иностранной валюте; ввоз и пересылка в РФ и из РФ валютных ценностей, международные денежные переводы, а также операции, в которых участвуют нерезиденты Р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резидентам РФ относя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Физические лица, имеющие постоянное место жительства в РФ, в том числе временно находящиеся за пределами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Юридические лица, созданные в соответствии с законодательством РФ, с местонахождением в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едприятия и организации, не являющиеся юридическими лицами, созданные в соответствии с законодательством РФ, с местонахождением в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ходящиеся за пределами РФ филиалы и представительства резидентов 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нерезидентам РФ относя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Физические лица, имеющие постоянное место жительства за пределами РФ, в том числе временно находящиеся в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Юридические лица, созданные в соответствии с законодательством иностранных государств, с местонахождением за пределами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едприятия и организации, не являющиеся юридическими лицами, созданные в соответствии с законодательством иностранных государств, с местонахождением за пределами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ходящиеся в РФ филиалы и представительства нерезидентов 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резидентам РФ относя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Физические лица, имеющие постоянное место жительства в РФ, в том числе временно находящиеся за пределами РФ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Юридические лица, созданные в соответствии с законодательством РФ, с местонахождением в РФ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едприятия и организации, не являющиеся юридическими лицами, созданные в соответствии с законодательством РФ, с местонахождением в РФ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аходящиеся за пределами РФ филиалы и представительства резидентов Р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нерезидентам РФ относя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Физические лица, имеющие постоянное место жительства за пределами РФ, в том числе временно находящиеся в РФ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Юридические лица, созданные в соответствии с законодательством иностранных государств, с местонахождением за пределами РФ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едприятия и организации, не являющиеся юридическими лицами, созданные в соответствии с законодательством иностранных государств, с местонахождением за пределами РФ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аходящиеся в РФ филиалы и представительства нерезидентов Р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онтроль – это контроль за проведением валютных операций в целях их приведения в соответствие с нормами и требованиями, предъявляемыми действующим законодательств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овление валютного контроля в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 перехода российского государства к рыночным отношениям в экономике обусловил необходимость интеграции страны в мировое экономическое хозяйство и, следовательно, послужил катализатором резкого усиления и развития внешнеторговых связей. Начиная с 1986 г. практически все субъекты хозяйственной деятельности получили право прямого выхода на внешние рынки и распоряжения заработанной иностранной валютой. При этом по мере развития совместного предпринимательства с участием иностранного капитала число участников внешнеэкономической деятельности (ВЭД) постоянно возрастал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991 г. был принят Закон СССР « О валютном регулировании и валютном контроле» (в 1992 г.- Закон РФ). Этим Законом в качестве основного органа валютного регулирования определен Государственный (в РФ - Центральный) банк, что соответствует практике большинства стран мира. Был введен институт агентов валютного контроля. Законом были установлены также основные принципы проведения операций с иностранной валютой. Аукционная торговля иностранной валютой стала лицензировать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иная с 1991 г. получили лицензии на организацию биржевых операций с иностранной валютой 8 валютных бирж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онтро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ый контроль – это контроль за проведением валютных операций в целях их приведения в соответствие с нормами и требованиями, предъявляемыми действующим законодательств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новление валютного контроля в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сс перехода российского государства к рыночным отношениям в экономике обусловил необходимость интеграции страны в мировое экономическое хозяйство и, следовательно, послужил катализатором резкого усиления и развития внешнеторговых связей. Начиная с 1986 г. практически все субъекты хозяйственной деятельности получили право прямого выхода на внешние рынки и распоряжения заработанной иностранной валютой. При этом по мере развития совместного предпринимательства с участием иностранного капитала число участников внешнеэкономической деятельности (ВЭД) постоянно возрастал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991 г. был принят Закон СССР « О валютном регулировании и валютном контроле» (в 1992 г.- Закон РФ). Этим Законом в качестве основного органа валютного регулирования определен Государственный (в РФ - Центральный) банк, что соответствует практике большинства стран мира. Был введен институт агентов валютного контроля. Законом были установлены также основные принципы проведения операций с иностранной валютой. Аукционная торговля иностранной валютой стала лицензировать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чиная с 1991 г. получили лицензии на организацию биржевых операций с иностранной валютой 8 валютных бирж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ый контро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стоящее время можно говорить о том, что только США, ФРГ, Великобритания, Италия и Франция, а с недавнего времени и Япония практически не имеют валютных огранич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ость и границы валютного контр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онтроль со своими положительными и отрицательными сторонами может по-разному влиять на экономику, а его применение может иметь больший или меньший эффект в виде различных количественных характеристик, являющихся показателями степени достижения ц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два подхода к оценке эффективности: затратный и результатив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тратный  подход предполагает оценку эффективности через отношение достигнутого результата к средствам, затраченным на его достижение. В качестве результата здесь выступают объем предотвращенного нелегального вывоза и ввоза капитала, а формула коэффициента эффективности выглядит следующим образо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де Опнк – объем предотвращенного нелегального движения капитала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Звк – затраты на осуществление валютного контро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настоящее время можно говорить о том, что только США, ФРГ, Великобритания, Италия и Франция, а с недавнего времени и Япония практически не имеют валютных огранич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ивность и границы валютного контро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ый контроль со своими положительными и отрицательными сторонами может по-разному влиять на экономику, а его применение может иметь больший или меньший эффект в виде различных количественных характеристик, являющихся показателями степени достижения це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ет два подхода к оценке эффективности: затратный и результативны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тратный  подход предполагает оценку эффективности через отношение достигнутого результата к средствам, затраченным на его достижение. В качестве результата здесь выступают объем предотвращенного нелегального вывоза и ввоза капитала, а формула коэффициента эффективности выглядит следующим образо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Опнк – объем предотвращенного нелегального движения капитала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Звк – затраты на осуществление валютного контро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выше объемы предотвращенного нелегального движения капитала и чем ниже затраты, тем выше эффектив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ультативный подход предполагает оценку эффективности через отношение «достигнутого результата» к «поставленной цели». Применительно к валютному контролю это выражается следующим образом. Поставленная цель – предотвращение нелегального движения капитала. Формула имеет ви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де Олк – объем легального движения капита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лк – объем нелегального движения капита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ые меры контроля, в том числе и валютного, имеют свой предел. Выигрыш от валютного контроля государство получает, во-первых, за счет ограничения сроков платежей по текущим операциям и, во-вторых, за счет сокращения объема вывоза капитала, т.е. уменьшения зарубежных инвестиций и увеличения объема привлеченных капиталовлож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 выше объемы предотвращенного нелегального движения капитала и чем ниже затраты, тем выше эффектив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зультативный подход предполагает оценку эффективности через отношение «достигнутого результата» к «поставленной цели». Применительно к валютному контролю это выражается следующим образом. Поставленная цель – предотвращение нелегального движения капитала. Формула имеет вид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Олк – объем легального движения капитал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лк – объем нелегального движения капит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бые меры контроля, в том числе и валютного, имеют свой предел. Выигрыш от валютного контроля государство получает, во-первых, за счет ограничения сроков платежей по текущим операциям и, во-вторых, за счет сокращения объема вывоза капитала, т.е. уменьшения зарубежных инвестиций и увеличения объема привлеченных капиталовлож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валютного контроля в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направлениями валютного контроля в России являютс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соответствия проводимых валютных операций действующему законодательству и наличия необходимых для них лицензий и разреш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 выполнения резидентами обязательств в иностранной валюте перед государством, а также обязательств по продаже иностранной валюты на внутреннем валютном рынке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 обоснованности платежей в иностранной валют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 полноты и объективности учета и отчетности по валютным операци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валютного контроля в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ми направлениями валютного контроля в России являются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соответствия проводимых валютных операций действующему законодательству и наличия необходимых для них лицензий и разреше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рка выполнения резидентами обязательств в иностранной валюте перед государством, а также обязательств по продаже иностранной валюты на внутреннем валютном рынке РФ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рка обоснованности платежей в иностранной валют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рка полноты и объективности учета и отчетности по валютным операци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органов валютного контроля в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 органом валютного регулирования и валютного контроля в РФ является Банк России. В его компетенцию входи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сферы и порядка обращения в РФ иностранной валюты и ценных бумаг в иностранной валют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дание нормативных актов, обязательных к исполнению в РФ резидентами и нерезидент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ие правил проведения резидентами и нерезидентами в РФ операций с иностранной валютой ценными бумагами в иностранной валют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ка и публикация статистики валютных операций  РФ по принятым международным стандарт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е территориальные управления Банка Росси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ют заключения по запросам уполномоченных банк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рашивают разъяснения Банка России по спорным либо неурегулированным вопроса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ируют поступающие в их адрес предложения по совершенствованию валютного законодательства РФ по вопросам, относящимся к компетенции Банка Росс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яют соответствующие предложения от своего имени в Банк Рос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органов валютного контроля в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м органом валютного регулирования и валютного контроля в РФ является Банк России. В его компетенцию входи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сферы и порядка обращения в РФ иностранной валюты и ценных бумаг в иностранной валют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дание нормативных актов, обязательных к исполнению в РФ резидентами и нерезидент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ление правил проведения резидентами и нерезидентами в РФ операций с иностранной валютой ценными бумагами в иностранной валют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и публикация статистики валютных операций  РФ по принятым международным стандарт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ые территориальные управления Банка России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ют заключения по запросам уполномоченных бан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рашивают разъяснения Банка России по спорным либо неурегулированным вопроса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ируют поступающие в их адрес предложения по совершенствованию валютного законодательства РФ по вопросам, относящимся к компетенции Банка Росс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яют соответствующие предложения от своего имени в Банк Росс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Правительства РФ по валютному контролю выполняют в основном ГТК России, Минфин России и Министерство экономического развития и торговли Росс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нфину и Министерству по экономическому развитию и торговле России переданы следующие функции Федеральной Службы РФ по валютному и экспортному контролю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дение единой общегосударственной политики в области организации контроля и надзора за соблюдением законодательства РФ в сфере валютных, экспортных и иных внешнеэкономических операц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ение межотраслевой координ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контроля и надзора за соблюдением законодательства РФ министерствами, ведомствами, предприятиями и организациями, участвующими в регулировании и осуществлении экспортно-импортных и иных внешнеэкономических опера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валютном контроле участвуют и другие федеральные органы исполнительной власти; так, Федеральная служба безопасности РФ, министерство внутренних дел РФ, Служба внешней разведки РФ и Министерство обороны РФ информируют Правительство РФ о ставших им известными фактах нарушения резидентами и нерезидентами валютного и таможенного законодательства и иных нормативных актов, касающихся осуществления валютных и других опера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Правительства РФ по валютному контролю выполняют в основном ГТК России, Минфин России и Министерство экономического развития и торговли Росс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фину и Министерству по экономическому развитию и торговле России переданы следующие функции Федеральной Службы РФ по валютному и экспортному контролю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дение единой общегосударственной политики в области организации контроля и надзора за соблюдением законодательства РФ в сфере валютных, экспортных и иных внешнеэкономических операц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уществление межотраслевой координ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ение контроля и надзора за соблюдением законодательства РФ министерствами, ведомствами, предприятиями и организациями, участвующими в регулировании и осуществлении экспортно-импортных и иных внешнеэкономических опера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валютном контроле участвуют и другие федеральные органы исполнительной власти; так, Федеральная служба безопасности РФ, министерство внутренних дел РФ, Служба внешней разведки РФ и Министерство обороны РФ информируют Правительство РФ о ставших им известными фактах нарушения резидентами и нерезидентами валютного и таможенного законодательства и иных нормативных актов, касающихся осуществления валютных и других опера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ое регулировани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ое регулирование в широком смысле – это регламентация государством основных принципов организации национальной валютной системы и механизмов ее функционирования. Сущность валютного регулирования заключается в создании такой системы воздействия на конвертируемость национальной валюты, валютного курса, внутреннего валютного рынка и платёжного баланса, которая отвечала бы стратегическим задачам развития национальной экономики и вместе с тем отражала бы потребности текущего мо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 понятия «валютное регулирование» многообразно. Это по существу совокупность таких процессов, как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 деятельность государственных органов п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ю обращением валю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 контроль государства за валютны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ациями;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 воздействие на курс национальной валю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 ограничение использования иностранной валют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 совокупность законодательных, административных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х и организационных мероприятий,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ющих порядок проведения операций с валютными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ностями.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ое регулировани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ое регулирование в широком смысле – это регламентация государством основных принципов организации национальной валютной системы и механизмов ее функционирования. Сущность валютного регулирования заключается в создании такой системы воздействия на конвертируемость национальной валюты, валютного курса, внутреннего валютного рынка и платёжного баланса, которая отвечала бы стратегическим задачам развития национальной экономики и вместе с тем отражала бы потребности текущего мом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 понятия «валютное регулирование» многообразно. Это по существу совокупность таких процессов, как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 деятельность государственных органов п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ю обращением валют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 контроль государства за валютны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ерациями;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 воздействие на курс национальной валют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 ограничение использования иностранной валюты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 совокупность законодательных, административных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их и организационных мероприятий,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яющих порядок проведения операций с валютными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ностями.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государства  в сфере валютного регулирования, как правило, включают в себя: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 накапливание статистических данных об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орте из страны и импорте в стран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 регулирование вывоза из страны стратегическ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ырь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 регламентирование ввоза или вывоза националь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ы из страны, куплю-продажу ценных бума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 покупка резидентами и нерезидентами недвижим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территории страны или за её пределам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 определение курса валюты данной страны п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шению к прочим валюта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  регулирование порядка проведения операций 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идентами и нерезидент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  регламентирование порядка репатриации прибыл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ной от проведения экспортных операц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ое регулирование формируется и во многом определяет проводимой государством валютной полити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политика – совокупность государственных мер в области внешнеэкономических связей, направленных на достижение стратегических задач и текущих целей страны, поддержание внутреннего и внешнего равновес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государства  в сфере валютного регулирования, как правило, включают в себя: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 накапливание статистических данных об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спорте из страны и импорте в стран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 регулирование вывоза из страны стратегическ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ырь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 регламентирование ввоза или вывоза национальн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ы из страны, куплю-продажу ценных бумаг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 покупка резидентами и нерезидентами недвижи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территории страны или за её пределам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 определение курса валюты данной страны п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ношению к прочим валюта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  регулирование порядка проведения операций с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зидентами и нерезидент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  регламентирование порядка репатриации прибыл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енной от проведения экспортных операц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ое регулирование формируется и во многом определяет проводимой государством валютной политик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ая политика – совокупность государственных мер в области внешнеэкономических связей, направленных на достижение стратегических задач и текущих целей страны, поддержание внутреннего и внешнего равновес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ое регулирование может бы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ым и косвен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ое валютное регулирование – совокупность законодательных и административных действий власти, определяющих порядок проведения операций с валютными ценност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свенное валютное регулирование – совокупность экономических методов воздействия на участников внешнеэкономических связей путем создания у них экономической заинтересованности в осуществлении определенных валютных операций.  Преобладание того или иного метода валютного регулирования, определяет его характер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беральным или ограничитель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беральное валютное регулирование направлено на текущую конъюнктуру валютного рынка, оно не затрагивает структурных основ валютной системы и валютного кур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ительное валютное регулирование целенаправленно воздействует на формирование валютного курса и платёжного баланса. Его законченной формой выступают валютные ограничения, т.е. законодательное или административное запрещение, лимитирование и регламентирование операций резидентов и нерезидентов с валютой и другими валютными ценност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ое регулирование может бы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ямым и косвен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ямое валютное регулирование – совокупность законодательных и административных действий власти, определяющих порядок проведения операций с валютными ценност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свенное валютное регулирование – совокупность экономических методов воздействия на участников внешнеэкономических связей путем создания у них экономической заинтересованности в осуществлении определенных валютных операций.  Преобладание того или иного метода валютного регулирования, определяет его характер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беральным или ограничитель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беральное валютное регулирование направлено на текущую конъюнктуру валютного рынка, оно не затрагивает структурных основ валютной системы и валютного кур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граничительное валютное регулирование целенаправленно воздействует на формирование валютного курса и платёжного баланса. Его законченной формой выступают валютные ограничения, т.е. законодательное или административное запрещение, лимитирование и регламентирование операций резидентов и нерезидентов с валютой и другими валютными ценност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валютных ограничений разнообразны: ограничение или запрет на экспорт капитала, блокирование счетов нерезидентов, множественность валютных курсов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ое регулирование осуществляется государством посредством использования определенных инструментов, которые представляют собой конкретные организационные и экономические меры, с помощью которых государство воздействует на соотношение спроса и предложения на иностранную  валюту внутри страны и на состояние её платежного баланса. Содержание инструментов и механизм их использования формируются под определённым воздействием реальной макроэкономической ситуации, целей микроэкономической политики и действующего в стране законодательства. Так, к инструментам валютного регулирования относятся применяемые правительством квоты, устанавливаемые лимиты, вводимые штрафные санкции, валютные интервенции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ое регулирование осуществляется посредством механизма валютного контроля. Валютный контроль – это система мер по обеспечению исполнения законов, норм и правил проведения валютных операций, установленных государством.  По существу, валютный контроль обеспечивает эффективность валютного регулирования и поэтому является его составной частью. Взаимодействие и взаимосвязи инструментов и методов валютного регулирования и валютного контроля представлены на рис.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 валютных ограничений разнообразны: ограничение или запрет на экспорт капитала, блокирование счетов нерезидентов, множественность валютных курсов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ое регулирование осуществляется государством посредством использования определенных инструментов, которые представляют собой конкретные организационные и экономические меры, с помощью которых государство воздействует на соотношение спроса и предложения на иностранную  валюту внутри страны и на состояние её платежного баланса. Содержание инструментов и механизм их использования формируются под определённым воздействием реальной макроэкономической ситуации, целей микроэкономической политики и действующего в стране законодательства. Так, к инструментам валютного регулирования относятся применяемые правительством квоты, устанавливаемые лимиты, вводимые штрафные санкции, валютные интервенции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ое регулирование осуществляется посредством механизма валютного контроля. Валютный контроль – это система мер по обеспечению исполнения законов, норм и правил проведения валютных операций, установленных государством.  По существу, валютный контроль обеспечивает эффективность валютного регулирования и поэтому является его составной частью. Взаимодействие и взаимосвязи инструментов и методов валютного регулирования и валютного контроля представлены на рис.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осуществления валютного контроля внешнеэкономической деятельности создается специальный механизм, который включает специальные инструменты осуществления контроля, фирмы, методы и инструменты его повеления. В России этот механизм имеет следующую структуру. Рис.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осуществления валютного контроля внешнеэкономической деятельности создается специальный механизм, который включает специальные инструменты осуществления контроля, фирмы, методы и инструменты его повеления. В России этот механизм имеет следующую структуру. Рис.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.2. Валютный контроль в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.2. Валютный контроль в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ое регулирование существует во всех странах. В России оно осуществляется в соответствии с Законом РФ от 9 октября 1992 г. № 3615-1 «О валютном регулировании и валютном контроле р РФ», который определя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принципы проведения валютных операции в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полномочия и функции органов и агентов валютного      регулирования и валютного контрол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права и обязанности юридических и физических лиц в отношении владения, пользования и распоряжения валютными ценностя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меру ответственности за нарушение валютного законодатель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е Закона – юридическая основа создания национальной валютной системы 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ой элемент национальной валютной системы – национальная валюта. Закон дает четкое определение самого понятия «национальная российская валюта». Так, к «валюте Российской Федерации» относя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_ находящиеся в обращении, а также изъятые или изымаемые из обращения, но подлежащие обмену рубли в виде банковских билетов (банкнот) ЦБ РФ и моне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ое регулирование существует во всех странах. В России оно осуществляется в соответствии с Законом РФ от 9 октября 1992 г. № 3615-1 «О валютном регулировании и валютном контроле р РФ», который определяе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принципы проведения валютных операции в РФ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полномочия и функции органов и агентов валютного      регулирования и валютного контрол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права и обязанности юридических и физических лиц в отношении владения, пользования и распоряжения валютными ценностя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меру ответственности за нарушение валютного законодатель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йствие Закона – юридическая основа создания национальной валютной системы Р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элемент национальной валютной системы – национальная валюта. Закон дает четкое определение самого понятия «национальная российская валюта». Так, к «валюте Российской Федерации» относя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_ находящиеся в обращении, а также изъятые или изымаемые из обращения, но подлежащие обмену рубли в виде банковских билетов (банкнот) ЦБ РФ и монет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08D6-DEC6-4CC6-AAE9-02C8FA821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1687-F692-42A8-806E-5CD6CB004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7398-53E0-49C6-97A5-CB23D460C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29BE-01D9-4DF8-AC41-01CD4146A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9388F-6152-4289-B014-FBB6C0737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B610B-2337-4E8D-917F-788F6CADB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FDE82-648F-43FC-8FEE-AB424B6DC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60B5A-29DA-4530-BD2B-687205C20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C8BB7-E6FD-4904-91A7-C080BF61B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1560F-3502-4AB4-AB4D-35E6E43B8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2ABA6-130E-4558-8B71-FD271002F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C2AA-9551-4BE2-9F59-1459E58E6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80059-F39A-4071-A3C7-318D84DAD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C3CF6-5D7C-4995-8939-28C9C8ABD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A1964-7E82-494F-8C5D-A7EAFF26B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C1A54-142F-45F8-BA06-2F3DFC8B3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17186-B044-4727-A971-68875DEB0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724F-7980-4764-B6FE-F82B78760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87E8-2DF5-43D7-BC14-DCAE7D0C9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332A-64E1-4AFA-A4CA-7D6843BD3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5D94-7C84-4F7C-9975-221FBDAA2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310C-6F1A-40D3-9548-79DA285EF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BFFB-CA07-4324-9C9B-F13606731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3B41-B6E0-4A3C-B8E2-27ACA60C3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5d7446"/>
                </a:gs>
                <a:gs pos="100000">
                  <a:srgbClr val="ccf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99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8ACE4-66EA-4FE2-BB5B-3D680420B41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99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1ADED-AF8E-4ECA-ACDC-BD84494E06D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noFill/>
          <a:ln w="76320">
            <a:solidFill>
              <a:srgbClr val="ccffff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hiller"/>
              </a:rPr>
              <a:t>Валютное регулирование и валютный контроль</a:t>
            </a:r>
            <a:endParaRPr b="0" lang="en-US" sz="48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819160" y="75960"/>
            <a:ext cx="61722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_ средства в рублях на счетах в банках и иных кредитных учреждениях в РФ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_ средства в рублях на счетах в банках и иных кредитных учреждениях за пределами РФ (на основании межправительственных соглашений  об использовании валюты РФ на территории данного государства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_ платежные документы(чеки, векселя, аккредитивы и др.), фондовые ценности (акции, облигации), другие долговые обязательства, выраженные в рубля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оскольку внешнеэкономические связи предполагают обмен национальной валюты на иностранну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« Иностранная валюта»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- это денежные знаки в виде банкнот, казначейских билетов, монет, находящиеся в обращении и являющиеся законным платежным средством в соответствующем государстве, а также средства на счетах в денежных единицах иностранных государст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«Валютные операции»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определены как операции, которые связаны с переходом права собственности и иных прав на валютные ценности, в том числе использование в качестве средства платежа ценных бумаг в иностранной валюте; ввоз и пересылка в РФ и из РФ валютных ценностей, международные денежные переводы, а также операции, в которых участвуют нерезиденты РФ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743200" y="152280"/>
            <a:ext cx="59436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Comic Sans MS"/>
              </a:rPr>
              <a:t>К резидентам РФ относятс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- Физические лица, имеющие постоянное место жительства в РФ, в том числе временно находящиеся за пределами РФ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- Юридические лица, созданные в соответствии с законодательством РФ, с местонахождением в РФ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- Предприятия и организации, не являющиеся юридическими лицами, созданные в соответствии с законодательством РФ, с местонахождением в РФ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- Находящиеся за пределами РФ филиалы и представительства резидентов РФ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Comic Sans MS"/>
              </a:rPr>
              <a:t>К нерезидентам РФ относятс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- Физические лица, имеющие постоянное место жительства за пределами РФ, в том числе временно находящиеся в РФ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- Юридические лица, созданные в соответствии с законодательством иностранных государств, с местонахождением за пределами РФ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- Предприятия и организации, не являющиеся юридическими лицами, созданные в соответствии с законодательством иностранных государств, с местонахождением за пределами РФ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- Находящиеся в РФ филиалы и представительства нерезидентов РФ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828440" y="609480"/>
            <a:ext cx="7086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i="1" lang="ru-RU" sz="1600" spc="-1" strike="noStrike">
                <a:solidFill>
                  <a:srgbClr val="000000"/>
                </a:solidFill>
                <a:latin typeface="Comic Sans MS"/>
              </a:rPr>
              <a:t>Валютный контроль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– это контроль за проведением валютных операций в целях их приведения в соответствие с нормами и требованиями, предъявляемыми действующим законодательств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omic Sans MS"/>
              </a:rPr>
              <a:t>Становление валютного контроля в Росс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оцесс перехода российского государства к рыночным отношениям в экономике обусловил необходимость интеграции страны в мировое экономическое хозяйство и, следовательно, послужил катализатором резкого усиления и развития внешнеторговых связей. Начиная с 1986 г. практически все субъекты хозяйственной деятельности получили право прямого выхода на внешние рынки и распоряжения заработанной иностранной валютой. При этом по мере развития совместного предпринимательства с участием иностранного капитала число участников внешнеэкономической деятельности (ВЭД) постоянно возрастал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 1991 г. был принят Закон СССР « О валютном регулировании и валютном контроле» (в 1992 г.- Закон РФ). Этим Законом в качестве основного органа валютного регулирования определен Государственный (в РФ - Центральный) банк, что соответствует практике большинства стран мира. Был введен институт агентов валютного контроля. Законом были установлены также основные принципы проведения операций с иностранной валютой. Аукционная торговля иностранной валютой стала лицензировать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Начиная с 1991 г. получили лицензии на организацию биржевых операций с иностранной валютой 8 валютных бирж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2361960" y="152280"/>
            <a:ext cx="63975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Валютный контроль</a:t>
            </a:r>
            <a:endParaRPr b="0" lang="en-US" sz="28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2285640" y="152280"/>
            <a:ext cx="670572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В настоящее время можно говорить о том, что только США, ФРГ, Великобритания, Италия и Франция, а с недавнего времени и Япония практически не имеют валютных ограничен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Эффективность и границы валютного контро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Валютный контроль со своими положительными и отрицательными сторонами может по-разному влиять на экономику, а его применение может иметь больший или меньший эффект в виде различных количественных характеристик, являющихся показателями степени достижения цел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Существует два подхода к оценке эффективности: затратный и результативны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Затратный </a:t>
            </a:r>
            <a:r>
              <a:rPr b="0" i="1" lang="ru-RU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подход предполагает оценку эффективности через отношение достигнутого результата к средствам, затраченным на его достижение. В качестве результата здесь выступают объем предотвращенного нелегального вывоза и ввоза капитала, а формула коэффициента эффективности выглядит следующим образом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Object 4" descr=""/>
          <p:cNvPicPr/>
          <p:nvPr/>
        </p:nvPicPr>
        <p:blipFill>
          <a:blip r:embed="rId1"/>
          <a:stretch/>
        </p:blipFill>
        <p:spPr>
          <a:xfrm>
            <a:off x="6172200" y="4038480"/>
            <a:ext cx="878040" cy="1219320"/>
          </a:xfrm>
          <a:prstGeom prst="rect">
            <a:avLst/>
          </a:prstGeom>
          <a:ln w="0">
            <a:noFill/>
          </a:ln>
        </p:spPr>
      </p:pic>
      <p:pic>
        <p:nvPicPr>
          <p:cNvPr id="122" name="Object 7" descr=""/>
          <p:cNvPicPr/>
          <p:nvPr/>
        </p:nvPicPr>
        <p:blipFill>
          <a:blip r:embed="rId2"/>
          <a:stretch/>
        </p:blipFill>
        <p:spPr>
          <a:xfrm>
            <a:off x="5562720" y="4267080"/>
            <a:ext cx="533160" cy="2872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2590560" y="4800600"/>
            <a:ext cx="63975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Где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пнк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– объем предотвращенного нелегального движения капитала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З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вк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– затраты на осуществление валютного контроля.</a:t>
            </a:r>
            <a:endParaRPr b="0" lang="en-US" sz="1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2438280" y="304920"/>
            <a:ext cx="6475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Чем выше объемы предотвращенного нелегального движения капитала и чем ниже затраты, тем выше эффективн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Результативный подход предполагает оценку эффективности через отношение «достигнутого результата» к «поставленной цели». Применительно к валютному контролю это выражается следующим образом. Поставленная цель – предотвращение нелегального движения капитала. Формула имеет вид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где Олк – объем легального движения капитал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Онлк – объем нелегального движения капита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Object 4" descr=""/>
          <p:cNvPicPr/>
          <p:nvPr/>
        </p:nvPicPr>
        <p:blipFill>
          <a:blip r:embed="rId1"/>
          <a:stretch/>
        </p:blipFill>
        <p:spPr>
          <a:xfrm>
            <a:off x="3808440" y="2763720"/>
            <a:ext cx="1220760" cy="6112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2590560" y="4495320"/>
            <a:ext cx="639756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Любые меры контроля, в том числе и валютного, имеют свой предел. Выигрыш от валютного контроля государство получает, во-первых, за счет ограничения сроков платежей по текущим операциям и, во-вторых, за счет сокращения объема вывоза капитала, т.е. уменьшения зарубежных инвестиций и увеличения объема привлеченных капиталовложений.</a:t>
            </a:r>
            <a:endParaRPr b="0" lang="en-US" sz="1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514240" y="151920"/>
            <a:ext cx="63975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рганизация валютного контроля в РФ</a:t>
            </a:r>
            <a:endParaRPr b="0" lang="en-US" sz="24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361960" y="1218960"/>
            <a:ext cx="639756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Основными направлениями валютного контроля в России являются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Определение соответствия проводимых валютных операций действующему законодательству и наличия необходимых для них лицензий и разрешен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оверка выполнения резидентами обязательств в иностранной валюте перед государством, а также обязательств по продаже иностранной валюты на внутреннем валютном рынке РФ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оверка обоснованности платежей в иностранной валют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оверка полноты и объективности учета и отчетности по валютным операция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14240" y="0"/>
            <a:ext cx="63975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Функции органов валютного контроля в РФ</a:t>
            </a:r>
            <a:endParaRPr b="0" lang="en-US" sz="20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38280" y="380520"/>
            <a:ext cx="639792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Основным органом валютного регулирования и валютного контроля в РФ является Банк России. В его компетенцию входи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Определение сферы и порядка обращения в РФ иностранной валюты и ценных бумаг в иностранной валют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Издание нормативных актов, обязательных к исполнению в РФ резидентами и нерезидента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Установление правил проведения резидентами и нерезидентами в РФ операций с иностранной валютой ценными бумагами в иностранной валют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одготовка и публикация статистики валютных операций  РФ по принятым международным стандарт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Главные территориальные управления Банка России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Дают заключения по запросам уполномоченных банк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Запрашивают разъяснения Банка России по спорным либо неурегулированным вопроса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Анализируют поступающие в их адрес предложения по совершенствованию валютного законодательства РФ по вопросам, относящимся к компетенции Банка Росс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Направляют соответствующие предложения от своего имени в Банк Росс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9000"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2361960" y="228600"/>
            <a:ext cx="639756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Функции Правительства РФ по валютному контролю выполняют в основном ГТК России, Минфин России и Министерство экономического развития и торговли Росс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Минфину и Министерству по экономическому развитию и торговле России переданы следующие функции Федеральной Службы РФ по валютному и экспортному контролю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оведение единой общегосударственной политики в области организации контроля и надзора за соблюдением законодательства РФ в сфере валютных, экспортных и иных внешнеэкономических операц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Осуществление межотраслевой координац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Обеспечение контроля и надзора за соблюдением законодательства РФ министерствами, ведомствами, предприятиями и организациями, участвующими в регулировании и осуществлении экспортно-импортных и иных внешнеэкономических операц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 валютном контроле участвуют и другие федеральные органы исполнительной власти; так, Федеральная служба безопасности РФ, министерство внутренних дел РФ, Служба внешней разведки РФ и Министерство обороны РФ информируют Правительство РФ о ставших им известными фактах нарушения резидентами и нерезидентами валютного и таможенного законодательства и иных нормативных актов, касающихся осуществления валютных и других операц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43200" y="3045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99ff"/>
                </a:solidFill>
                <a:latin typeface="Comic Sans MS"/>
              </a:rPr>
              <a:t>     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Валютное регулирование</a:t>
            </a:r>
            <a:br>
              <a:rPr sz="2400"/>
            </a:br>
            <a:endParaRPr b="0" lang="en-US" sz="24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439720" y="990720"/>
            <a:ext cx="655164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Валютное регулирование в широком смысле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– это регламентация государством основных принципов организации национальной валютной системы и механизмов ее функционирования. Сущность валютного регулирования заключается в создании такой системы воздействия на конвертируемость национальной валюты, валютного курса, внутреннего валютного рынка и платёжного баланса, которая отвечала бы стратегическим задачам развития национальной экономики и вместе с тем отражала бы потребности текущего момен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i="1" lang="ru-RU" sz="1400" spc="-1" strike="noStrike">
                <a:solidFill>
                  <a:srgbClr val="000000"/>
                </a:solidFill>
                <a:latin typeface="Comic Sans MS"/>
              </a:rPr>
              <a:t>Содержание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понятия «валютное регулирование» многообразно. Это по существу совокупность таких процессов, как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*  деятельность государственных органов п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управлению обращением валют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*  контроль государства за валютным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операциями;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*  воздействие на курс национальной валют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*  ограничение использования иностранной валюты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*  совокупность законодательных, административных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экономических и организационных мероприятий,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определяющих порядок проведения операций с валютными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ценностями.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7000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439720" y="304920"/>
            <a:ext cx="639756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ru-RU" sz="1600" spc="-1" strike="noStrike">
                <a:solidFill>
                  <a:srgbClr val="000000"/>
                </a:solidFill>
                <a:latin typeface="Comic Sans MS"/>
              </a:rPr>
              <a:t>Функции государства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в сфере валютного регулирования, как правило, включают в себя: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*  накапливание статистических данных об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экспорте из страны и импорте в стран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*  регулирование вывоза из страны стратегическ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ырь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*  регламентирование ввоза или вывоза националь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алюты из страны, куплю-продажу ценных бумаг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*  покупка резидентами и нерезидентами недвижим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на территории страны или за её пределам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*  определение курса валюты данной страны п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отношению к прочим валюта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*   регулирование порядка проведения операций с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резидентами и нерезидента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*   регламентирование порядка репатриации прибыл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олученной от проведения экспортных операци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алютное регулирование формируется и во многом определяет проводимой государством валютной политик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i="1" lang="ru-RU" sz="1600" spc="-1" strike="noStrike">
                <a:solidFill>
                  <a:srgbClr val="000000"/>
                </a:solidFill>
                <a:latin typeface="Comic Sans MS"/>
              </a:rPr>
              <a:t>Валютная политика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– совокупность государственных мер в области внешнеэкономических связей, направленных на достижение стратегических задач и текущих целей страны, поддержание внутреннего и внешнего равновес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6000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743200" y="151920"/>
            <a:ext cx="64008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алютное регулирование может быт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ямым и косвенны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Прямое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валютное регулирование – совокупность законодательных и административных действий власти, определяющих порядок проведения операций с валютными ценностя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Косвенное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валютное регулирование – совокупность экономических методов воздействия на участников внешнеэкономических связей путем создания у них экономической заинтересованности в осуществлении определенных валютных операций.  Преобладание того или иного метода валютного регулирования, определяет его характер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Либеральным или ограничительны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Либеральное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валютное регулирование направлено на текущую конъюнктуру валютного рынка, оно не затрагивает структурных основ валютной системы и валютного курс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Ограничительное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валютное регулирование целенаправленно воздействует на формирование валютного курса и платёжного баланса. Его законченной формой выступают валютные ограничения, т.е. законодательное или административное запрещение, лимитирование и регламентирование операций резидентов и нерезидентов с валютой и другими валютными ценностя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5"/>
          <p:cNvSpPr/>
          <p:nvPr/>
        </p:nvSpPr>
        <p:spPr>
          <a:xfrm>
            <a:off x="2362320" y="152280"/>
            <a:ext cx="6629400" cy="65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Формы валютных ограничений разнообразны: ограничение или запрет на экспорт капитала, блокирование счетов нерезидентов, множественность валютных курсов и т.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алютное регулирование осуществляется государством посредством использования определенных инструментов, которые представляют собой конкретные организационные и экономические меры, с помощью которых государство воздействует на соотношение спроса и предложения на иностранную  валюту внутри страны и на состояние её платежного баланса. Содержание инструментов и механизм их использования формируются под определённым воздействием реальной макроэкономической ситуации, целей микроэкономической политики и действующего в стране законодательства. Так, к инструментам валютного регулирования относятся применяемые правительством квоты, устанавливаемые лимиты, вводимые штрафные санкции, валютные интервенции и т.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алютное регулирование осуществляется посредством механизма валютного контроля. Валютный контроль – это система мер по обеспечению исполнения законов, норм и правил проведения валютных операций, установленных государством.  По существу, валютный контроль обеспечивает эффективность валютного регулирования и поэтому является его составной частью. Взаимодействие и взаимосвязи инструментов и методов валютного регулирования и валютного контроля представлены на рис. 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Object 3" descr=""/>
          <p:cNvPicPr/>
          <p:nvPr/>
        </p:nvPicPr>
        <p:blipFill>
          <a:blip r:embed="rId1"/>
          <a:stretch/>
        </p:blipFill>
        <p:spPr>
          <a:xfrm>
            <a:off x="2882880" y="228600"/>
            <a:ext cx="5511960" cy="586728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133720" y="1447560"/>
            <a:ext cx="6703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Для осуществления валютного контроля внешнеэкономической деятельности создается специальный механизм, который включает специальные инструменты осуществления контроля, фирмы, методы и инструменты его повеления. В России этот механизм имеет следующую структуру. Рис.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Object 6" descr=""/>
          <p:cNvPicPr/>
          <p:nvPr/>
        </p:nvPicPr>
        <p:blipFill>
          <a:blip r:embed="rId1"/>
          <a:stretch/>
        </p:blipFill>
        <p:spPr>
          <a:xfrm>
            <a:off x="1676520" y="304920"/>
            <a:ext cx="7467480" cy="59562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8"/>
          <p:cNvSpPr/>
          <p:nvPr/>
        </p:nvSpPr>
        <p:spPr>
          <a:xfrm>
            <a:off x="3035160" y="5119200"/>
            <a:ext cx="321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ис.2. Валютный контроль в Р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2438280" y="228240"/>
            <a:ext cx="639792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алютное регулирование существует во всех странах. В России оно осуществляется в соответствии с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Законом РФ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от 9 октября 1992 г. № 3615-1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«О валютном регулировании и валютном контроле р РФ»,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который определяе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* принципы проведения валютных операции в РФ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* полномочия и функции органов и агентов валютного      регулирования и валютного контрол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* права и обязанности юридических и физических лиц в отношении владения, пользования и распоряжения валютными ценностя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* меру ответственности за нарушение валютного законодатель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Действие Закона – юридическая основа создания национальной валютной системы РФ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Основной элемент национальной валютной системы – национальная валюта. Закон дает четкое определение самого понятия «национальная российская валюта». Так, к «валюте Российской Федерации» относятс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_ находящиеся в обращении, а также изъятые или изымаемые из обращения, но подлежащие обмену рубли в виде банковских билетов (банкнот) ЦБ РФ и монет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6-01-05T11:06:32Z</dcterms:modified>
  <cp:revision>11</cp:revision>
  <dc:subject/>
  <dc:title>Валютный контроль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604000000000001024140</vt:lpwstr>
  </property>
  <property fmtid="{D5CDD505-2E9C-101B-9397-08002B2CF9AE}" pid="3" name="Version">
    <vt:r8>1</vt:r8>
  </property>
</Properties>
</file>